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289E-3F96-472A-A935-94FBF2268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8ABE-1466-4B21-AF6D-5C137FF3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A568-6DF9-431D-88DF-19B954239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5340-946D-454C-9A4E-7CB18A259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65FF-2A02-4B18-829A-E941DE3A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9D9E-0E92-438D-8EE9-F8F7E278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F556-14D1-4C48-8D7F-DAE2E1BB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73BE-AC49-4D6A-98E8-410E7337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24F4-E33D-4A07-B093-8C5C460B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9A68-4112-4E1F-8FB6-89668528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96DB-0145-401E-9C1D-B35CD3BB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103C-947A-449C-8E91-1956FCD0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9DD6-DDFF-4C02-9D2E-262F4B5F2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00 Často zápasíš sá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z to pochopíš snáď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ťa Pán vždy má rá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on za teba svoj život d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ľub svoj on vypln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rných sám odmení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tko z lásky mu daj na oltá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l si Spasiteľov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mal si mu dať?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Pánom on tvojím sa stal?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Šťastný vždy môžeš by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íťazný život žiť,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keď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mu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rád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všetko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dáš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na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oltár.</a:t>
            </a:r>
            <a:br>
              <a:rPr sz="47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asto zápasíš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vzdory sklamania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a stáť nechávaš opodia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arosti tvoje nie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vždy ochotný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vot svoj jemu daj na oltá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l si Spasiteľov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mal si mu dať?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Pánom on tvojím sa stal?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Šťastný vždy môžeš by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íťazný život žiť,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keď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mu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rád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všetko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dáš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na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oltár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áčaj len za Krist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č sa žiť ako o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ďačný buď za každý jeho d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užbe ho odovzd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rpiacim pomáh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eba daj Pánovi na oltá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l si Spasiteľov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mal si mu dať?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Pánom on tvojím sa stal?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Šťastný vždy môžeš by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íťazný život žiť,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keď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mu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rád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všetko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dáš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na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oltár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5T12:12:41Z</dcterms:modified>
  <cp:revision>21</cp:revision>
  <dc:subject/>
  <dc:title>Je veľký náš Pán, on slávy je Kráľ Nech do všetkých strán  spev vrúcnych znie chvál.</dc:title>
</cp:coreProperties>
</file>